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0.gif" ContentType="image/gif"/>
  <Override PartName="/ppt/media/image32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3.jpeg" ContentType="image/jpeg"/>
  <Override PartName="/ppt/media/image30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187-B2F0-4BB5-8301-7748756D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E54-C1E0-4262-A2BD-3B8C1403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0A3-C2E2-4403-86FE-758ED8E6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2F1-8442-4824-8727-8761B5A6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A6A-3C34-45D2-904E-365480CE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200-C4ED-4720-9ADC-F0444A4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7A8-DA2C-41B3-B95D-565A7039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C74-A1DD-4F67-A8C7-B5E3D09D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C87-E7C9-4DD4-BD42-08F8118D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17E-52D9-4740-A7F4-F075CA82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5BA-FCB9-4C64-A241-0F493EB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F23-893D-48F7-A580-2A74BB50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32F1-E946-457F-8CF5-E976D1EFF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89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48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Arial"/>
              </a:rPr>
              <a:t>Beta b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cques Bou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A Salay/ APC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997360"/>
            <a:ext cx="669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sics of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aseline  CER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r energy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rn, 18/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672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1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7236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872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950080"/>
            <a:ext cx="3743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L= 10 x T2K1  + sensitivity on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453360"/>
            <a:ext cx="4608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ame performance as T2K2 (meg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to overcome superbeam limita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56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in probl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 protons produce less negative pions, s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s anti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neutrino cross-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 times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10 SPL years have to be shared  as  ~ 2 neutrino + 8 antineutrin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e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to study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scillation and run i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from S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 asymetry, equivalent to CP asyme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IS WAS THE INITIAL MOTIVATION FOR A 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268280"/>
            <a:ext cx="808668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ncept proposed by Piero Zucch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radioactive ions (ISOL tech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m in the CERN accelerator complex up t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ord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ions in a storage ring with long straight sections aimed at a f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ly focussed neutrino beam due to small Q value of beta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lity factor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pure flavour composition (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ami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ectly known energ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 first studied at CE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ts Lindroos and collabo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d now part of the EURISOL 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rong synergy between beta beams and EURIS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0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production from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(n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preferred to direct irradiation (heat transfer and efficient cooling allows higher power compared to insulating Be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production rate is ~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16600" cy="414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286000"/>
            <a:ext cx="3657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er technology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Nolen, NPA 701 (2002) 312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27280" y="127080"/>
            <a:ext cx="5790960" cy="83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6705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llation of close-by target nuc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cannot be used; the beam hits directly the magnesium oxid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rate for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is ~ 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can be produced with one order of magnitude higher intensity but the half-life is 17 seco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4760" y="284040"/>
            <a:ext cx="7167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-beam base 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trategy for the conceptual design 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hould be based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nown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arge number of technology jumps, requiring major and costly R&amp;D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ver possi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isting 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accelerators) for the “first stage” base lin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jor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 for production of radioactive 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N 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lerators for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ons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164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84040"/>
            <a:ext cx="77580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beam base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3480" y="5048280"/>
            <a:ext cx="1143000" cy="107964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104" y="0"/>
                </a:moveTo>
                <a:cubicBezTo>
                  <a:pt x="52" y="116"/>
                  <a:pt x="0" y="232"/>
                  <a:pt x="8" y="336"/>
                </a:cubicBezTo>
                <a:cubicBezTo>
                  <a:pt x="16" y="440"/>
                  <a:pt x="80" y="568"/>
                  <a:pt x="152" y="624"/>
                </a:cubicBezTo>
                <a:cubicBezTo>
                  <a:pt x="224" y="680"/>
                  <a:pt x="352" y="680"/>
                  <a:pt x="440" y="672"/>
                </a:cubicBezTo>
                <a:cubicBezTo>
                  <a:pt x="528" y="664"/>
                  <a:pt x="604" y="620"/>
                  <a:pt x="68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8600" y="4064040"/>
            <a:ext cx="674640" cy="1127160"/>
          </a:xfrm>
          <a:custGeom>
            <a:avLst/>
            <a:gdLst/>
            <a:ahLst/>
            <a:rect l="l" t="t" r="r" b="b"/>
            <a:pathLst>
              <a:path w="641" h="963">
                <a:moveTo>
                  <a:pt x="0" y="963"/>
                </a:moveTo>
                <a:lnTo>
                  <a:pt x="64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81560" y="3670200"/>
            <a:ext cx="99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Neutrino Source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3027240"/>
            <a:ext cx="156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produc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SOL target &amp;   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34324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roton Driver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352680"/>
            <a:ext cx="12952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500 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 = ~5 T          C = ~7000 m    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~25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30800" y="2610000"/>
            <a:ext cx="1117080" cy="1005480"/>
            <a:chOff x="6130800" y="2610000"/>
            <a:chExt cx="1117080" cy="1005480"/>
          </a:xfrm>
        </p:grpSpPr>
        <p:sp>
          <p:nvSpPr>
            <p:cNvPr id="163" name=""/>
            <p:cNvSpPr/>
            <p:nvPr/>
          </p:nvSpPr>
          <p:spPr>
            <a:xfrm>
              <a:off x="613116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13080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30800" y="4905000"/>
            <a:ext cx="1117080" cy="1057320"/>
            <a:chOff x="6130800" y="4905000"/>
            <a:chExt cx="1117080" cy="1057320"/>
          </a:xfrm>
        </p:grpSpPr>
        <p:sp>
          <p:nvSpPr>
            <p:cNvPr id="166" name=""/>
            <p:cNvSpPr/>
            <p:nvPr/>
          </p:nvSpPr>
          <p:spPr>
            <a:xfrm flipV="1">
              <a:off x="613116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13080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486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289320"/>
            <a:ext cx="248616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720" y="5353200"/>
            <a:ext cx="156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medium energy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5651640"/>
            <a:ext cx="272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5160" y="5484960"/>
            <a:ext cx="174600" cy="176040"/>
          </a:xfrm>
          <a:custGeom>
            <a:avLst/>
            <a:gdLst/>
            <a:ahLst/>
            <a:rect l="l" t="t" r="r" b="b"/>
            <a:pathLst>
              <a:path w="65" h="51">
                <a:moveTo>
                  <a:pt x="65" y="0"/>
                </a:moveTo>
                <a:lnTo>
                  <a:pt x="0" y="5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194440"/>
            <a:ext cx="533520" cy="722160"/>
          </a:xfrm>
          <a:custGeom>
            <a:avLst/>
            <a:gdLst/>
            <a:ahLst/>
            <a:rect l="l" t="t" r="r" b="b"/>
            <a:pathLst>
              <a:path w="149" h="182">
                <a:moveTo>
                  <a:pt x="0" y="182"/>
                </a:moveTo>
                <a:lnTo>
                  <a:pt x="1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099040"/>
            <a:ext cx="5317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2496960"/>
            <a:ext cx="2895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fin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 &amp; 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51840" y="23047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34200" y="21430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to 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2743200"/>
            <a:ext cx="120600" cy="274320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9400" y="4062240"/>
            <a:ext cx="152280" cy="15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4467240"/>
            <a:ext cx="1810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880" y="2305080"/>
            <a:ext cx="247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960" y="4549680"/>
            <a:ext cx="16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accele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i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857760"/>
            <a:ext cx="17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prepa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CR pul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84480" y="3224160"/>
            <a:ext cx="247680" cy="4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7859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o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14880" y="1785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5440" y="17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utrin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3622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ow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13906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High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560" y="1295280"/>
            <a:ext cx="8182080" cy="497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14360"/>
            <a:ext cx="2092320" cy="3962520"/>
          </a:xfrm>
          <a:custGeom>
            <a:avLst/>
            <a:gdLst/>
            <a:ahLst/>
            <a:rect l="l" t="t" r="r" b="b"/>
            <a:pathLst>
              <a:path w="1344" h="2496">
                <a:moveTo>
                  <a:pt x="0" y="2496"/>
                </a:moveTo>
                <a:lnTo>
                  <a:pt x="1344" y="2496"/>
                </a:lnTo>
                <a:lnTo>
                  <a:pt x="134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48180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dc to very short bu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080" y="1066680"/>
            <a:ext cx="8919720" cy="5303160"/>
            <a:chOff x="46080" y="1066680"/>
            <a:chExt cx="8919720" cy="5303160"/>
          </a:xfrm>
        </p:grpSpPr>
        <p:sp>
          <p:nvSpPr>
            <p:cNvPr id="196" name=""/>
            <p:cNvSpPr/>
            <p:nvPr/>
          </p:nvSpPr>
          <p:spPr>
            <a:xfrm>
              <a:off x="1514160" y="1295280"/>
              <a:ext cx="5628960" cy="774720"/>
            </a:xfrm>
            <a:custGeom>
              <a:avLst/>
              <a:gdLst/>
              <a:ahLst/>
              <a:rect l="l" t="t" r="r" b="b"/>
              <a:pathLst>
                <a:path w="2160" h="576">
                  <a:moveTo>
                    <a:pt x="0" y="576"/>
                  </a:moveTo>
                  <a:lnTo>
                    <a:pt x="48" y="528"/>
                  </a:lnTo>
                  <a:lnTo>
                    <a:pt x="144" y="528"/>
                  </a:lnTo>
                  <a:lnTo>
                    <a:pt x="1392" y="0"/>
                  </a:lnTo>
                  <a:lnTo>
                    <a:pt x="1488" y="0"/>
                  </a:lnTo>
                  <a:lnTo>
                    <a:pt x="2160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93640" y="129528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3640" y="2066760"/>
              <a:ext cx="74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6520" y="620244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3120" y="619776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7880" y="6019920"/>
              <a:ext cx="43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68080" y="2514600"/>
              <a:ext cx="446040" cy="304920"/>
              <a:chOff x="1468080" y="2514600"/>
              <a:chExt cx="446040" cy="30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68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31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57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3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46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9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960120" y="3546360"/>
              <a:ext cx="33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640" y="3152880"/>
              <a:ext cx="1294920" cy="39348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9520" y="21477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0640" y="301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640" y="36226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0160" y="2441520"/>
              <a:ext cx="479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33177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80" y="30812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40" y="3522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560" y="311796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6880" y="20574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8720" y="13636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32418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5960" y="16686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92120" y="209556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1353600" y="279684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6520" y="5465880"/>
              <a:ext cx="1828440" cy="152280"/>
            </a:xfrm>
            <a:prstGeom prst="rect">
              <a:avLst/>
            </a:prstGeom>
            <a:solidFill>
              <a:srgbClr val="00ff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9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56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49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2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0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9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520" y="5846760"/>
              <a:ext cx="18284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4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2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1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87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5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4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0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9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7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64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150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3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2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0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45280" y="2519280"/>
              <a:ext cx="424440" cy="304920"/>
              <a:chOff x="7145280" y="2519280"/>
              <a:chExt cx="42444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714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2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8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0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627600" y="3827520"/>
              <a:ext cx="175212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7132320" y="3560400"/>
              <a:ext cx="3348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3166920"/>
              <a:ext cx="1294920" cy="39384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6360" y="21528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22840" y="30272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2840" y="36370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37360" y="24462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3200" y="33321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7920" y="30956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8040" y="353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7760" y="31320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3560" y="32558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8960" y="2100240"/>
              <a:ext cx="63468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030440" y="2798640"/>
              <a:ext cx="63468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0560" y="6075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99160" y="577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70560" y="3789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7360560" y="2946240"/>
              <a:ext cx="45684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4760" y="1066680"/>
              <a:ext cx="236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x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to decay 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x4 bunches of &lt;5 n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12193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0320" y="29718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 s flat bottom with 8 (16) injections. Acceleration in ~1 s  to top PS energ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5120" y="5811840"/>
              <a:ext cx="43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c production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5120" y="5168880"/>
              <a:ext cx="360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GHz ECR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ccumulation for 1/8 (1/16) s ejection of fully stripped ~2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 pulse.              8 (16) batche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0320" y="3733920"/>
              <a:ext cx="297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C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further bunching to ~100 ns  Acceleration to ~300 MeV/u.              8 (16) repetition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0320" y="2209680"/>
              <a:ext cx="380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njection of 4 + 4  bunches from PS. Acceleration to decay ring energy and ejection. Repetition time 8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8360" y="3809880"/>
              <a:ext cx="4875840" cy="2559960"/>
              <a:chOff x="198360" y="3809880"/>
              <a:chExt cx="4875840" cy="2559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73960" y="619776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85320" y="6032520"/>
                <a:ext cx="431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160" y="6032520"/>
                <a:ext cx="43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59960" y="4483080"/>
                <a:ext cx="2514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ost accelerator lin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acceleration to ~100 MeV/u.     8 (16) repetitions during 1 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3960" y="5486400"/>
                <a:ext cx="1828440" cy="152280"/>
              </a:xfrm>
              <a:prstGeom prst="rect">
                <a:avLst/>
              </a:prstGeom>
              <a:solidFill>
                <a:srgbClr val="00ff00">
                  <a:alpha val="3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6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3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10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9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98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6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3960" y="5867280"/>
                <a:ext cx="182844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0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09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376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662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4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3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52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5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39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25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1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99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28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040" y="3848040"/>
                <a:ext cx="1752120" cy="152640"/>
              </a:xfrm>
              <a:custGeom>
                <a:avLst/>
                <a:gdLst/>
                <a:ahLst/>
                <a:rect l="l" t="t" r="r" b="b"/>
                <a:pathLst>
                  <a:path w="1104" h="96">
                    <a:moveTo>
                      <a:pt x="0" y="96"/>
                    </a:moveTo>
                    <a:lnTo>
                      <a:pt x="48" y="48"/>
                    </a:lnTo>
                    <a:lnTo>
                      <a:pt x="480" y="48"/>
                    </a:lnTo>
                    <a:lnTo>
                      <a:pt x="528" y="0"/>
                    </a:lnTo>
                    <a:lnTo>
                      <a:pt x="576" y="48"/>
                    </a:lnTo>
                    <a:lnTo>
                      <a:pt x="1056" y="48"/>
                    </a:lnTo>
                    <a:lnTo>
                      <a:pt x="110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360" y="6095880"/>
                <a:ext cx="22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26600" y="5791320"/>
                <a:ext cx="40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98360" y="38098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137360" y="1685880"/>
              <a:ext cx="1828440" cy="380880"/>
            </a:xfrm>
            <a:custGeom>
              <a:avLst/>
              <a:gdLst/>
              <a:ahLst/>
              <a:rect l="l" t="t" r="r" b="b"/>
              <a:pathLst>
                <a:path w="1152" h="240">
                  <a:moveTo>
                    <a:pt x="0" y="240"/>
                  </a:moveTo>
                  <a:lnTo>
                    <a:pt x="96" y="192"/>
                  </a:lnTo>
                  <a:lnTo>
                    <a:pt x="240" y="192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llection/accelera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2629080"/>
            <a:ext cx="7162920" cy="2133000"/>
            <a:chOff x="380880" y="2629080"/>
            <a:chExt cx="7162920" cy="2133000"/>
          </a:xfrm>
        </p:grpSpPr>
        <p:grpSp>
          <p:nvGrpSpPr>
            <p:cNvPr id="325" name=""/>
            <p:cNvGrpSpPr/>
            <p:nvPr/>
          </p:nvGrpSpPr>
          <p:grpSpPr>
            <a:xfrm>
              <a:off x="380880" y="4228920"/>
              <a:ext cx="5027400" cy="533160"/>
              <a:chOff x="380880" y="4228920"/>
              <a:chExt cx="502740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86280" y="4481280"/>
                <a:ext cx="502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9692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1584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3476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08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700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90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082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00160" y="3682800"/>
              <a:ext cx="5025600" cy="533160"/>
              <a:chOff x="1100160" y="3682800"/>
              <a:chExt cx="502560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1105560" y="3935160"/>
                <a:ext cx="502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1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15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34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533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93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79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6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25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34920" y="341460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1296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5604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987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80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6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62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2520" y="288108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318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72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972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33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2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15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438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93840" y="44578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4381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37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2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255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ay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57200" y="3924000"/>
            <a:ext cx="609120" cy="533160"/>
            <a:chOff x="457200" y="3924000"/>
            <a:chExt cx="609120" cy="533160"/>
          </a:xfrm>
        </p:grpSpPr>
        <p:sp>
          <p:nvSpPr>
            <p:cNvPr id="369" name=""/>
            <p:cNvSpPr/>
            <p:nvPr/>
          </p:nvSpPr>
          <p:spPr>
            <a:xfrm flipV="1">
              <a:off x="45720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0948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176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91404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5920" y="4444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89640" y="3911760"/>
            <a:ext cx="609120" cy="532800"/>
            <a:chOff x="5489640" y="3911760"/>
            <a:chExt cx="609120" cy="532800"/>
          </a:xfrm>
        </p:grpSpPr>
        <p:sp>
          <p:nvSpPr>
            <p:cNvPr id="375" name=""/>
            <p:cNvSpPr/>
            <p:nvPr/>
          </p:nvSpPr>
          <p:spPr>
            <a:xfrm flipV="1">
              <a:off x="548964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192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420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4648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1143000" y="3429000"/>
            <a:ext cx="692280" cy="495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170028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069"/>
              <a:gd name="adj5" fmla="val 319273"/>
              <a:gd name="adj6" fmla="val -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p time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5600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575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753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740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4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48240" y="547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258920" y="4797360"/>
            <a:ext cx="4191120" cy="762120"/>
            <a:chOff x="1258920" y="4797360"/>
            <a:chExt cx="4191120" cy="762120"/>
          </a:xfrm>
        </p:grpSpPr>
        <p:sp>
          <p:nvSpPr>
            <p:cNvPr id="388" name=""/>
            <p:cNvSpPr/>
            <p:nvPr/>
          </p:nvSpPr>
          <p:spPr>
            <a:xfrm rot="5400000">
              <a:off x="3163680" y="3273120"/>
              <a:ext cx="381240" cy="4191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0520" y="47973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1835280" y="2852280"/>
            <a:ext cx="3600360" cy="576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1600200"/>
            <a:ext cx="2286000" cy="1790640"/>
            <a:chOff x="5486400" y="1600200"/>
            <a:chExt cx="2286000" cy="1790640"/>
          </a:xfrm>
        </p:grpSpPr>
        <p:sp>
          <p:nvSpPr>
            <p:cNvPr id="392" name=""/>
            <p:cNvSpPr/>
            <p:nvPr/>
          </p:nvSpPr>
          <p:spPr>
            <a:xfrm>
              <a:off x="5486400" y="293364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440" y="1600200"/>
              <a:ext cx="121896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8384"/>
                <a:gd name="adj5" fmla="val 236981"/>
                <a:gd name="adj6" fmla="val -51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Reset time 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508640"/>
            <a:ext cx="4114800" cy="30456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50080"/>
            <a:ext cx="601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Typically (for 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e): 1 out of 8 produ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able ions is col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 out of 4 collected ions makes it to the ring (factor 2 for decays, factor 2 for transmission losses between machi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ed from M.Lindr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989000"/>
            <a:ext cx="151272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ain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349360"/>
            <a:ext cx="43164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844640"/>
            <a:ext cx="1143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3611"/>
              <a:gd name="adj5" fmla="val 225000"/>
              <a:gd name="adj6" fmla="val -9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mp time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84360" y="2349360"/>
            <a:ext cx="28728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78" t="27845" r="26558" b="-688"/>
          <a:stretch/>
        </p:blipFill>
        <p:spPr>
          <a:xfrm>
            <a:off x="-541440" y="2060640"/>
            <a:ext cx="5149800" cy="364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5734080"/>
            <a:ext cx="2303640" cy="6116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scillation maximum seen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30 km/M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92280"/>
            <a:ext cx="39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8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ic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5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KA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628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1702" t="17657" r="0" b="0"/>
          <a:stretch/>
        </p:blipFill>
        <p:spPr>
          <a:xfrm>
            <a:off x="4462560" y="1916280"/>
            <a:ext cx="4681440" cy="45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15920"/>
            <a:ext cx="70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SENT EVIDENCE FOR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9116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xplains solar neutrino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649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tudied by MINOS, OPERA, IC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in the S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69840" y="1111320"/>
            <a:ext cx="74851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als -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15400" cy="367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base line design, the aims are (cf. Bouchez et al., NuFact’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9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anti-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) along one straigh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1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)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for a “normalized” year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ent status is (after 8 months of the 4-year design stud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nti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gures)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ve reached the desig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 no safety margin is yet provid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figures) ar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e order of magnitude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   desired performance.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4762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 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22936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) for a single ISOL target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urisol targets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mize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 c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rease lo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incomplete stripping,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relax duty cycle as a last re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With present ideas, we could be off by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nly a facto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48428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B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Superbeam + beta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4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3573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2781360"/>
            <a:ext cx="503280" cy="576360"/>
          </a:xfrm>
          <a:prstGeom prst="upDownArrow">
            <a:avLst>
              <a:gd name="adj1" fmla="val 50000"/>
              <a:gd name="adj2" fmla="val 227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2781360"/>
            <a:ext cx="557280" cy="576360"/>
          </a:xfrm>
          <a:prstGeom prst="upDownArrow">
            <a:avLst>
              <a:gd name="adj1" fmla="val 50000"/>
              <a:gd name="adj2" fmla="val 20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71628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227664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4057800">
            <a:off x="3947760" y="1663560"/>
            <a:ext cx="211320" cy="3024000"/>
          </a:xfrm>
          <a:prstGeom prst="upDownArrow">
            <a:avLst>
              <a:gd name="adj1" fmla="val 50000"/>
              <a:gd name="adj2" fmla="val 284876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516800">
            <a:off x="2540160" y="313668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4292640"/>
            <a:ext cx="626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5229360"/>
            <a:ext cx="7345440" cy="1167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Furthermore: the small signal searched for with one beam is the bulk of events with the other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handle on detector response, strong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1268280"/>
            <a:ext cx="1439640" cy="7855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bea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 beam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844640"/>
            <a:ext cx="7775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-ring mu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ackg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charged pions mimicking a muon (all pions except  when absorbed by strong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Lower energ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less background pions, but muon Cerenkov threshold and bad energy resolution (Fermi momen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ore background, but better muon efficiency and energy bins becom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Optimization obtained through detailed detector response to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0960" y="5099040"/>
            <a:ext cx="683784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esent optimization: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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= 100, 10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. Mezzet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24000"/>
            <a:ext cx="8820000" cy="64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8000" y="6308640"/>
            <a:ext cx="22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519440" cy="3824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7360" y="1268280"/>
            <a:ext cx="4167360" cy="5185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11280" y="260280"/>
            <a:ext cx="813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TA BEAM PERFORMANCES, ALONE and WITH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2728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63086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0.5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 4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5805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500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3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661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645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 TAUP05 Zarag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500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or Frejus and HyperK dete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4.4 Mton.year (~10 year run, 440 kT fiducial mas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rejus: full simulation of signal and backgroun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based on SK software: results cross-checked using GLoBES 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th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LoBES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484280"/>
            <a:ext cx="4174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atics on signal and background put at 2% on all projects for the same(10 y) run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FACT;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ays/year, 2 x 50 kTdetectors at 3000 and 7500 km, detection threshold 4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3280" y="429264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602136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5157720"/>
            <a:ext cx="289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1773360"/>
            <a:ext cx="7274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First, one should clearly distinguish between the discovery potent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an experim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0 ) and the determination of the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ight be plagued by ambiguities (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 similar situation existed for many years for solar neutrinos : significant DEFICIT, many solutions : SMA, LMA, LOW, V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highest value of 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ong different solutions as an indicator of sensitivity 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as is done for exemple by Lindner et al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s in my opinion misle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2-dim sensitivity contour bringing much more information).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With this method, any oscillation experiment would have no sensitivity on </a:t>
            </a:r>
            <a:r>
              <a:rPr b="0" lang="el-GR" sz="1800" spc="-1" strike="noStrike">
                <a:solidFill>
                  <a:srgbClr val="990099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 as long as </a:t>
            </a:r>
            <a:r>
              <a:rPr b="0" lang="en-GB" sz="18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m</a:t>
            </a:r>
            <a:r>
              <a:rPr b="0" lang="en-GB" sz="18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2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is unkn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5280" y="1830240"/>
            <a:ext cx="7705800" cy="500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4720" y="2205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2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141720"/>
            <a:ext cx="280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Schwetz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-ph/0501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xing matrix: the missing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8000" y="378936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8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19280" y="213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89360"/>
            <a:ext cx="865080" cy="93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499920"/>
            <a:ext cx="1440000" cy="289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3357360"/>
            <a:ext cx="1224000" cy="43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2636640"/>
            <a:ext cx="1224000" cy="115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4000" y="3068640"/>
            <a:ext cx="93492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716280"/>
            <a:ext cx="48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844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700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2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492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42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781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933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7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01336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589720"/>
            <a:ext cx="30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 is a unitary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ngles 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1 CP violating phas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77336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masses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47530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SUN  :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8 10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-5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~ 35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ATM : 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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2.5 10</a:t>
            </a:r>
            <a:r>
              <a:rPr b="0" lang="en-GB" sz="1800" spc="-1" strike="noStrike" baseline="30000">
                <a:solidFill>
                  <a:srgbClr val="33cc33"/>
                </a:solidFill>
                <a:latin typeface="Arial"/>
              </a:rPr>
              <a:t>-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 = 45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4895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issing :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25000">
                <a:solidFill>
                  <a:srgbClr val="cc0000"/>
                </a:solidFill>
                <a:latin typeface="Arial"/>
              </a:rPr>
              <a:t>1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and the phase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oth govern the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scillation at the atmospheric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 know that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s &lt; 10</a:t>
            </a:r>
            <a:r>
              <a:rPr b="1" lang="en-GB" sz="1800" spc="-1" strike="noStrike" baseline="30000">
                <a:solidFill>
                  <a:srgbClr val="333399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CHO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7340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5734080"/>
            <a:ext cx="48261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 have to look for a small osc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292640"/>
            <a:ext cx="1295640" cy="239760"/>
          </a:xfrm>
          <a:custGeom>
            <a:avLst/>
            <a:gdLst/>
            <a:ahLst/>
            <a:rect l="l" t="t" r="r" b="b"/>
            <a:pathLst>
              <a:path w="816" h="151">
                <a:moveTo>
                  <a:pt x="0" y="0"/>
                </a:moveTo>
                <a:cubicBezTo>
                  <a:pt x="136" y="60"/>
                  <a:pt x="272" y="121"/>
                  <a:pt x="408" y="136"/>
                </a:cubicBezTo>
                <a:cubicBezTo>
                  <a:pt x="544" y="151"/>
                  <a:pt x="680" y="121"/>
                  <a:pt x="81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645000"/>
            <a:ext cx="82800" cy="936360"/>
          </a:xfrm>
          <a:custGeom>
            <a:avLst/>
            <a:gdLst/>
            <a:ahLst/>
            <a:rect l="l" t="t" r="r" b="b"/>
            <a:pathLst>
              <a:path w="52" h="590">
                <a:moveTo>
                  <a:pt x="45" y="590"/>
                </a:moveTo>
                <a:cubicBezTo>
                  <a:pt x="48" y="503"/>
                  <a:pt x="52" y="416"/>
                  <a:pt x="45" y="318"/>
                </a:cubicBezTo>
                <a:cubicBezTo>
                  <a:pt x="38" y="220"/>
                  <a:pt x="7" y="5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924280"/>
            <a:ext cx="168120" cy="504720"/>
          </a:xfrm>
          <a:custGeom>
            <a:avLst/>
            <a:gdLst/>
            <a:ahLst/>
            <a:rect l="l" t="t" r="r" b="b"/>
            <a:pathLst>
              <a:path w="106" h="318">
                <a:moveTo>
                  <a:pt x="91" y="318"/>
                </a:moveTo>
                <a:cubicBezTo>
                  <a:pt x="98" y="254"/>
                  <a:pt x="106" y="190"/>
                  <a:pt x="91" y="137"/>
                </a:cubicBezTo>
                <a:cubicBezTo>
                  <a:pt x="76" y="84"/>
                  <a:pt x="38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46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6093000"/>
            <a:ext cx="7848720" cy="68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ppearance in superbeam may also help in solving degeneracies (Donini et al, hep-ph/04114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476280"/>
            <a:ext cx="7345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possible schedule for  a european lab. at Frej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9280" y="1341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       2005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2015                      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9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916280"/>
            <a:ext cx="136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421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2421000"/>
            <a:ext cx="2592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421000"/>
            <a:ext cx="576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79640" y="2421000"/>
            <a:ext cx="1297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2924280"/>
            <a:ext cx="143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2924280"/>
            <a:ext cx="280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.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64000" y="3429000"/>
            <a:ext cx="201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3429000"/>
            <a:ext cx="187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sid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acc.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005360"/>
            <a:ext cx="284328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decay,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465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0" y="465300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465300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515772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0800000">
            <a:off x="5435280" y="5733720"/>
            <a:ext cx="3384360" cy="6426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everal modules: physics can start when the 1</a:t>
            </a:r>
            <a:r>
              <a:rPr b="0" lang="en-GB" sz="18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is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421000"/>
            <a:ext cx="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80000" y="515772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1773360"/>
            <a:ext cx="0" cy="396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5734080"/>
            <a:ext cx="3384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380880" y="1600200"/>
            <a:ext cx="7626600" cy="3359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73480" y="2509920"/>
            <a:ext cx="1198440" cy="549360"/>
          </a:xfr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520" y="5051520"/>
            <a:ext cx="2743200" cy="1218960"/>
          </a:xfr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ac4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6-20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o decide on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ementation  of the Linac 4 and any increased R&amp;D 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epending on new funds made available and on a new HR poli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89600"/>
            <a:ext cx="2895480" cy="1411200"/>
          </a:xfrm>
          <a:solidFill>
            <a:srgbClr val="ffc5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9-201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 review and redefine the strategy for CERN activities in the next decade 2011-2020 in the light of the first results from LHC and of progress and results from the previous action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1143000"/>
            <a:ext cx="2679480" cy="465120"/>
          </a:xfr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F tests in SM 18 of prototype structures* for Lina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6840" y="510048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862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35080"/>
            <a:ext cx="685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65360" y="1143000"/>
            <a:ext cx="33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Quotes from R. Aymar (Jan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416720" cy="777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High energy 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268280"/>
            <a:ext cx="7921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apers in the last 2 years have advocated using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eta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ing from 350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refurbished S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o 1000 or higher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greenfield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Higher energy offers several advantages, in particular to solve the mass hierarchy through matt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OST STUDIES BASED ON THE HYPOTHESIS THAT THE DECAY RATE IN THE RING STAYS THE 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that the event rate grows lik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veats: phase space limitation  =&gt; increase bunch length =&gt; more background: This needs to be studied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higher energy, performances of water Cerenkov deteriorate (background increase). Possibility =&gt; change technology =&gt; smaller mass =&gt; less statistics (and loss for non-accelerator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a new accelerator, new site and a very big decay ring =&gt;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st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projects, if proven feasible and as performant as expected, will arrive much later, but would then be direct competitors to a neutrino fa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e P.Hernandez review talk at CERN ISS meeting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486400" cy="5415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 and Backgrounds,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8720" y="5181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2640" y="51814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66840" y="1143000"/>
            <a:ext cx="3976560" cy="4014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724280" y="1058760"/>
            <a:ext cx="4148280" cy="4129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f D.Casper on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mature and powerfu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s to low-medium energy super-beams or beta beams are fair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details of beam, baseli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s above 1.5-2 GeV creat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itigated b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First example (hep-ph/050302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Burguet-Castell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1628640"/>
            <a:ext cx="72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lux independent of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verestimate duty cycl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etups considered (with megaton detector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120, L=130 km (optimal Frej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50, L=300 km (max,SPS at optimal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 g=350, L=730 km (S-SPS, Canfran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CP-Violation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1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≠0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878040"/>
            <a:ext cx="5616720" cy="2479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84520" y="3933720"/>
            <a:ext cx="55958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mparison of  set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50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716360" cy="353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09300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E.Couce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nother look at the mixing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2060640"/>
                <a:ext cx="84992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2349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234936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70828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708280"/>
            <a:ext cx="36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9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18734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941720"/>
            <a:ext cx="201780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13360"/>
            <a:ext cx="21607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02136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is “factorization” of effects is due to the smallness of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9900"/>
                </a:solidFill>
                <a:latin typeface="Arial"/>
              </a:rPr>
              <a:t>13 </a:t>
            </a: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e strong difference in oscilla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example (Migliozzi, TAUP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1628640"/>
            <a:ext cx="46083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350 (S-SPS) , same flux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RN-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kT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yea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3348000"/>
            <a:ext cx="5867280" cy="3510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4869000"/>
            <a:ext cx="24480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s similar to CERN-Frejus and no non-accelerator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859280" y="314172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8000" y="5300640"/>
            <a:ext cx="1224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3rd example (hep-ph/040508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erranova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177336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 between 1500 and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ll detector counting muons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68360" y="2770200"/>
            <a:ext cx="547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EC ions: monochromatic bea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.Bernabeu et al, hep-ph/05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628640"/>
            <a:ext cx="734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didates: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4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3.1 mn 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6/4      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2062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7.2 mn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9.9/0.1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39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76720" cy="3128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35280" y="3141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Pending question: achievable flux ? Challenge: needs partially stripped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un at different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’s, with or without betabeam: interesting potenti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4653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Even at low flux, ideal beam to measure neutrino cross-sections in a ne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000" y="5805360"/>
            <a:ext cx="8928000" cy="855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so…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tens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onochromati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neutron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bou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/sec , useful for nuclear physics (cf Nu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13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very) low energy beta-beams(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-14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Volpe, Journ. Phys. G30 (2004)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642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exploit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ta-beam 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duce intense and pu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w-energy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trino be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653800" y="1700280"/>
            <a:ext cx="3116160" cy="1194480"/>
            <a:chOff x="5653800" y="1700280"/>
            <a:chExt cx="3116160" cy="1194480"/>
          </a:xfrm>
        </p:grpSpPr>
        <p:sp>
          <p:nvSpPr>
            <p:cNvPr id="542" name=""/>
            <p:cNvSpPr/>
            <p:nvPr/>
          </p:nvSpPr>
          <p:spPr>
            <a:xfrm>
              <a:off x="6040080" y="2257560"/>
              <a:ext cx="254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230880" y="1952280"/>
              <a:ext cx="25236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287040" y="2408760"/>
              <a:ext cx="394200" cy="39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63680" y="1943280"/>
              <a:ext cx="227160" cy="324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653800" y="2389680"/>
              <a:ext cx="393840" cy="40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0880" y="2562480"/>
              <a:ext cx="252360" cy="3045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863680" y="2553120"/>
              <a:ext cx="227160" cy="323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7200" y="246240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67720" y="2443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5680" y="2200320"/>
              <a:ext cx="87480" cy="4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3000" y="2399400"/>
              <a:ext cx="591120" cy="590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823880" y="1949400"/>
              <a:ext cx="528480" cy="387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27480" y="2496600"/>
              <a:ext cx="519840" cy="3981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6280" y="1952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04920" y="2062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5880" y="21891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00160" y="17002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Comic Sans MS"/>
                </a:rPr>
                <a:t>Beta-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4160" y="3332160"/>
            <a:ext cx="2524680" cy="1033200"/>
            <a:chOff x="6014160" y="3332160"/>
            <a:chExt cx="2524680" cy="1033200"/>
          </a:xfrm>
        </p:grpSpPr>
        <p:sp>
          <p:nvSpPr>
            <p:cNvPr id="560" name=""/>
            <p:cNvSpPr/>
            <p:nvPr/>
          </p:nvSpPr>
          <p:spPr>
            <a:xfrm flipV="1">
              <a:off x="8074080" y="3755520"/>
              <a:ext cx="457200" cy="1522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480" y="3881160"/>
              <a:ext cx="304920" cy="30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6680" y="403380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21800" y="4213080"/>
              <a:ext cx="30456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7760" y="38322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8040" y="3555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Georgi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16880" y="398448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47880" y="3332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160" y="353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996633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6640" y="3474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eorgi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140360" y="5300640"/>
            <a:ext cx="500364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study within EUR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sign of a small storage r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sible construction at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 old antiproton storage ring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9640" y="3040200"/>
            <a:ext cx="516420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hysic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trino-nucleus interaction studi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a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 experiments (oscil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less double-beta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Conclusion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9640" y="765000"/>
            <a:ext cx="799308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clearly 2 different strategies concerning beta-beam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aselin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=100,  L=130 km)  with a megaton WC detector at Frejus, which makes full use of some happy coincid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CERN-Frejus is the right distance for the SPL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Digging a safety gallery at Frejus gives a good opprtunity to dig the new cavern (2010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Beta-beam energy obtained from SPS fits also Cern-Frejus distance, and a strong synergy with Eurisol project has become evident and frui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he betabeam + superbeam combination gives by far the best second generation project worldwide (superior to T2K2 or BNL/U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easily take the risk of a null result on oscillations, since such a detector has a very rich and fundamental program of  its own (proton decay, supernova explo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approach,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the project is not meant to compete with neutrino factorie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7) and allow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oscillations….whi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ing back neutrino physics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80" y="1484280"/>
            <a:ext cx="7777080" cy="34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The higher energy betabe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clearly aims at competing with a neutrino fac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chieve these goals, the baseline scenario has to be significantly improved to override present limitations. It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complex of accelerators (faster, higher acceptable flu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etter (and bigger!) deca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project will anyhow need much more R&amp;D, will arrive much later and will be also more costly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oscillation physics could also become a criterim to choose between betabeams and neutrino factories, in case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 experiments have seen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5157720"/>
            <a:ext cx="77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ly, these 2 strategies are not exclusive, we could have both in sequence. An alternative would be to skip the baseline betabeam and go directly to a high energy betabeam or a neutrino factory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ut I personnally find this too ri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482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280" y="692280"/>
            <a:ext cx="7920000" cy="58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megaton water Cerenkov detector ,consisting of several modules, can be installed  between 2010 and 2020 at 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t has a very rich non-accelerator program of its own: proton decay, SN explosions, atmospheric, solar, past S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CERN decides to build the 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ffers an excellent superbeam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, with similar performances to the japanese project T2K2 and starting sooner (HK ready by 2020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 this SPL is the proton machine for EURISOL at CE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pens the way to beta beams, with modest added cost, offering  better performances than the superbeam and a strong complementarity between the two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neutrino physics, this project is not meant to compete with a neutrino factory,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 and make 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the presently unknown parameters… and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 back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physics to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igher energy beta beams correspond to a different strategy, as an alternative to neutrino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It gives a common interest to nuclear physicists and neutrino physicists to have the SPL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050920" y="234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8000" y="404640"/>
          <a:ext cx="8748720" cy="61927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476360"/>
                <a:gridCol w="1044720"/>
                <a:gridCol w="1368360"/>
                <a:gridCol w="1295280"/>
                <a:gridCol w="1332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acem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EST 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HC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beyond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IB beyond ISO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with Kan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850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 RCS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0 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 GeV/mMW R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 ?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o short  beam pu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/50 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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59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PS*/*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z RC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eV SC SP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6240" y="655308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with brightness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928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eed new inject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79640" y="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IP WG: long term altern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.Gar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00200" y="22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1219320"/>
            <a:ext cx="83059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neutrino facilities offer great promise for fundamental discoveries (such as CP violation) in neutrino physics, and a post-LHC construction window may exist for a facility to be sited at C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ERN should arrange a budget and personnel to enhance its participation in further developing the physics case and the technologies necessary for the realization of such facilities.  This would allow CERN to play a significant role in such projects wherever they are sit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A high-power proton driver is a main building block of future projects, and is therefore requir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Alone,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 a direct superbeam from a 2.2 GeV SPL does not appear to be the most attractive option for a future CERN neutrino experiment as it does not produce a significant advance on T2K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elcome the effort, partly funded by the EU, concerned with the conceptual design of a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beam.  At the same time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CERN should support the European neutrino factory initiative in its conceptual desig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3120" y="683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SC (Villars)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952920" y="3013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7c00"/>
                </a:solidFill>
                <a:latin typeface="Arial"/>
              </a:rPr>
              <a:t>CERN Context [3/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4480" y="575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777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quest for </a:t>
            </a:r>
            <a:r>
              <a:rPr b="0" lang="en-GB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actor experiments (double-Chooz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superbeams of first generation (T2K,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21000"/>
            <a:ext cx="6121440" cy="718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.and for </a:t>
            </a:r>
            <a:r>
              <a:rPr b="0" lang="en-GB" sz="36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r>
              <a:rPr b="0" lang="en-GB" sz="3600" spc="-1" strike="noStrike" baseline="-25000">
                <a:solidFill>
                  <a:srgbClr val="cc0000"/>
                </a:solidFill>
                <a:latin typeface="Arial"/>
              </a:rPr>
              <a:t>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41720"/>
            <a:ext cx="756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ton detectors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uperbeams of second gen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tabe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5734080"/>
            <a:ext cx="87487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le solving as much as possible intrinsic, mass hierarchy and 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θ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23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 ambig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71628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30064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71628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210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00000" y="1844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57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urope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1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484280"/>
          <a:ext cx="7364160" cy="4708440"/>
        </p:xfrm>
        <a:graphic>
          <a:graphicData uri="http://schemas.openxmlformats.org/drawingml/2006/table">
            <a:tbl>
              <a:tblPr/>
              <a:tblGrid>
                <a:gridCol w="3447720"/>
                <a:gridCol w="1974960"/>
                <a:gridCol w="19414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on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30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 (0.76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cycle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5/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rms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918000" y="914400"/>
            <a:ext cx="297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Extrapolation from PDAC based on the SPL CDR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828800"/>
          <a:ext cx="7966080" cy="4581360"/>
        </p:xfrm>
        <a:graphic>
          <a:graphicData uri="http://schemas.openxmlformats.org/drawingml/2006/table">
            <a:tbl>
              <a:tblPr/>
              <a:tblGrid>
                <a:gridCol w="3728880"/>
                <a:gridCol w="2136960"/>
                <a:gridCol w="21002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bunches (buck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 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protons per pulse (per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3 E14 (2.1 E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turns for in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normalized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3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7640" y="914400"/>
            <a:ext cx="3867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+ PDAC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7280" y="274680"/>
            <a:ext cx="309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a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3429000"/>
          <a:ext cx="5486400" cy="2679840"/>
        </p:xfrm>
        <a:graphic>
          <a:graphicData uri="http://schemas.openxmlformats.org/drawingml/2006/table">
            <a:tbl>
              <a:tblPr/>
              <a:tblGrid>
                <a:gridCol w="3657600"/>
                <a:gridCol w="1015920"/>
                <a:gridCol w="812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rticles per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843280" y="2924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AC4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00000" y="105264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and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Design report in preparation (publication mid-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le 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orization: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truction: 2007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-up &amp; commissioning: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ilability for physics (replacing Linac2):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6308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eV test place (Linac4 front-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0880" y="1752480"/>
            <a:ext cx="8381880" cy="4335120"/>
            <a:chOff x="380880" y="1752480"/>
            <a:chExt cx="8381880" cy="433512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rcRect l="19034" t="17343" r="3192" b="0"/>
            <a:stretch/>
          </p:blipFill>
          <p:spPr>
            <a:xfrm>
              <a:off x="380880" y="1752480"/>
              <a:ext cx="8381880" cy="43351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607" name=""/>
            <p:cNvSpPr/>
            <p:nvPr/>
          </p:nvSpPr>
          <p:spPr>
            <a:xfrm>
              <a:off x="7163640" y="2661840"/>
              <a:ext cx="10339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-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400" y="2661840"/>
              <a:ext cx="105840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PHI RF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9640" y="3773520"/>
              <a:ext cx="101268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8080" y="2661840"/>
              <a:ext cx="189216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asurement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80520" y="4380120"/>
              <a:ext cx="14533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P Klys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838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going project supported by HIPPI (FP6) + IPHI (CEA+IN2P3+C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extension  (future location in Linac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with beam :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8360" y="257040"/>
            <a:ext cx="8675640" cy="6705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6308640"/>
            <a:ext cx="26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Zisman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: A monochromatic neutrino b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4800600" cy="1889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276720" cy="2292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200400" cy="224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stripped ions: The loss due to stripping smaller than 5% per minute in the decay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produce 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 atoms/second (1+) with 50 microAmps proton beam with existing technology (TRIU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annual rate of 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cays along one straight section seems as a realistic target value for a desig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eyond EURISOL DS: Who will do the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 the best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631880"/>
          <a:ext cx="7086600" cy="51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31880"/>
                    <a:ext cx="7086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43000" y="838080"/>
          <a:ext cx="67816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7213680" y="635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83528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ome personal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974880"/>
            <a:ext cx="7991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aim in the coming year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ign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is absent from first round of super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urope regain strong position fo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u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think 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we are able to start between 2015 and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+betabeams superior to T2K phase2 and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( if we stick to “baseline” scenario ) 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can attract a worldwide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etector and beams wait for the other to take first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ternative is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k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cond round and prepar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(neutrino factory or higher energy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personally find this risky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We should try to find again a consensual road map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052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00" y="1557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989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157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373720"/>
            <a:ext cx="2808360" cy="405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o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5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62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(Initial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87280" y="1413000"/>
            <a:ext cx="71298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528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128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2421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95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87280" y="692280"/>
            <a:ext cx="71298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907920"/>
            <a:ext cx="532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LUDED BY CHO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65000"/>
            <a:ext cx="111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638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6364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8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63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67640" y="630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708280"/>
            <a:ext cx="2160360" cy="1225440"/>
          </a:xfrm>
          <a:custGeom>
            <a:avLst/>
            <a:gdLst/>
            <a:ahLst/>
            <a:rect l="l" t="t" r="r" b="b"/>
            <a:pathLst>
              <a:path w="1361" h="772">
                <a:moveTo>
                  <a:pt x="0" y="0"/>
                </a:moveTo>
                <a:cubicBezTo>
                  <a:pt x="113" y="185"/>
                  <a:pt x="227" y="370"/>
                  <a:pt x="454" y="499"/>
                </a:cubicBezTo>
                <a:cubicBezTo>
                  <a:pt x="681" y="628"/>
                  <a:pt x="1210" y="727"/>
                  <a:pt x="1361" y="772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4149720"/>
            <a:ext cx="1440000" cy="64764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6" y="204"/>
                  <a:pt x="317" y="272"/>
                </a:cubicBezTo>
                <a:cubicBezTo>
                  <a:pt x="468" y="340"/>
                  <a:pt x="816" y="385"/>
                  <a:pt x="907" y="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04000" y="4724280"/>
            <a:ext cx="1513080" cy="72072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7" y="204"/>
                  <a:pt x="318" y="272"/>
                </a:cubicBezTo>
                <a:cubicBezTo>
                  <a:pt x="469" y="340"/>
                  <a:pt x="809" y="385"/>
                  <a:pt x="907" y="4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56360" y="4941720"/>
            <a:ext cx="2016000" cy="505080"/>
          </a:xfrm>
          <a:custGeom>
            <a:avLst/>
            <a:gdLst/>
            <a:ahLst/>
            <a:rect l="l" t="t" r="r" b="b"/>
            <a:pathLst>
              <a:path w="1270" h="318">
                <a:moveTo>
                  <a:pt x="0" y="0"/>
                </a:moveTo>
                <a:cubicBezTo>
                  <a:pt x="53" y="64"/>
                  <a:pt x="106" y="129"/>
                  <a:pt x="318" y="182"/>
                </a:cubicBezTo>
                <a:cubicBezTo>
                  <a:pt x="530" y="235"/>
                  <a:pt x="1111" y="295"/>
                  <a:pt x="1270" y="318"/>
                </a:cubicBezTo>
              </a:path>
            </a:pathLst>
          </a:custGeom>
          <a:noFill/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5229360"/>
            <a:ext cx="1729080" cy="360360"/>
          </a:xfrm>
          <a:custGeom>
            <a:avLst/>
            <a:gdLst/>
            <a:ahLst/>
            <a:rect l="l" t="t" r="r" b="b"/>
            <a:pathLst>
              <a:path w="1089" h="227">
                <a:moveTo>
                  <a:pt x="0" y="0"/>
                </a:moveTo>
                <a:cubicBezTo>
                  <a:pt x="23" y="49"/>
                  <a:pt x="46" y="98"/>
                  <a:pt x="227" y="136"/>
                </a:cubicBezTo>
                <a:cubicBezTo>
                  <a:pt x="408" y="174"/>
                  <a:pt x="945" y="212"/>
                  <a:pt x="1089" y="227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1280" y="2708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Minos, Icarus, Oper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ouble Cho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414972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2K1, 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44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80360" y="48690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2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mination vs. Sm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4091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86440" cy="41068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50600" y="53672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9528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0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ff"/>
                </a:solidFill>
                <a:latin typeface="Arial"/>
              </a:rPr>
              <a:t>PMT size &lt;=&gt; c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“     &lt;=&gt;    12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ed area      1660                    615   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                      24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60                      7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xQExCE              1            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378936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                       2500                   800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292640"/>
            <a:ext cx="86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Cost/</a:t>
            </a:r>
            <a:r>
              <a:rPr b="0" i="1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 per useful PE</a:t>
            </a:r>
            <a:r>
              <a:rPr b="0" i="1" lang="de-DE" sz="2400" spc="-1" strike="noStrike" baseline="-25000">
                <a:solidFill>
                  <a:srgbClr val="cc0000"/>
                </a:solidFill>
                <a:latin typeface="Arial"/>
              </a:rPr>
              <a:t>U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=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ost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/(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xQEx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12.6                      7.7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                       </a:t>
            </a:r>
            <a:r>
              <a:rPr b="0" lang="de-DE" sz="2400" spc="-1" strike="noStrike">
                <a:solidFill>
                  <a:srgbClr val="0000ff"/>
                </a:solidFill>
                <a:latin typeface=""/>
              </a:rPr>
              <a:t>→   1 20-inch PMT replaced by 2 12-inch PMTs :                .   </a:t>
            </a:r>
            <a:r>
              <a:rPr b="1" lang="de-DE" sz="2000" spc="-1" strike="noStrike">
                <a:solidFill>
                  <a:srgbClr val="0000ff"/>
                </a:solidFill>
                <a:latin typeface=""/>
              </a:rPr>
              <a:t>same number of PE, better SE, better timing, better granularit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"/>
              </a:rPr>
              <a:t>        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Saving (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per 20-inc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= 900 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€ 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 electronics extra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648180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New pump capacity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3120" y="129528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livery over 6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00 working day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637000"/>
            <a:ext cx="8281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20“ tub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200,000/6/300 =&gt; 112 good tubes / yield 0.7 = 160 starts/day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1 start/pump/day) =&gt;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0 pumps ( € 30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12“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400,000/6/300 =&gt; 222 good tubes / yield 0.7 = 320 starts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 multi-array computerised pump at Photonis handles 20 starts/day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 pumps   ( € 5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000" y="630864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44360"/>
            <a:ext cx="8351640" cy="66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8748720" cy="672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29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ptember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144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 main go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the performance of the CERN high energy accelerators (PS, SPS &amp; LH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he needs of future experiments with neutrinos and radio-active ion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2057400"/>
            <a:ext cx="8229600" cy="3505320"/>
            <a:chOff x="609480" y="2057400"/>
            <a:chExt cx="8229600" cy="35053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82296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9480" y="4876920"/>
              <a:ext cx="4419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486400"/>
            <a:ext cx="8077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sent R&amp;D programme concentrates on low-energy (Linac4) items, wherever possible in collaboration with other labora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curr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97360"/>
            <a:ext cx="122544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237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R.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8:09:34Z</dcterms:created>
  <dc:creator>jbouchez</dc:creator>
  <dc:description/>
  <dc:language>en-US</dc:language>
  <cp:lastModifiedBy>jbouchez</cp:lastModifiedBy>
  <dcterms:modified xsi:type="dcterms:W3CDTF">2005-10-18T08:42:52Z</dcterms:modified>
  <cp:revision>34</cp:revision>
  <dc:subject/>
  <dc:title>What we know and what we want to know</dc:title>
</cp:coreProperties>
</file>